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C475C-E9BB-4009-B3F0-2FCFAC463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EB477-E7EC-40D1-AAC5-4C77D7D1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2EC29-19DE-4975-90CD-6F6FB7E60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8898B-380A-4E53-A7C2-F590298AF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3E82-3620-442E-9780-4F5FA1334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33D5-FBAC-4C2D-9901-0D8351AC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9A55-15A9-406C-9028-FD5799DD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723F-2D00-4E0C-BA25-6C763625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011D-7F59-42B5-86B8-91C36B04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0920-96F1-45E2-8495-2609857A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ACF86-87CE-4AF2-BB63-F9C4AB56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16FB0-5F98-4B04-A1E1-CC66937B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8D31-8991-4743-BF7E-59BCEAC2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94F1-BB58-4439-8455-8B09F634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D336-B929-4655-A0E3-079549A8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8A74-B720-4B2F-BD67-72744A2FB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E700-88FA-4471-9052-B8E438842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4CBF5-7F7B-4127-AC58-D197C08D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5C128-9E01-4572-838F-24C8F4E1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6F156-C401-488D-9A8E-4FD31858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EA11A-F901-49B6-B1F5-5E790B0E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D9D03-605D-4F54-AC04-C0502262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F88D1-7F41-44AF-A4E1-EB2D651A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EA138-A8E7-4317-A24B-15D69441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2b262f"/>
                </a:gs>
                <a:gs pos="100000">
                  <a:srgbClr val="1e18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0344a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3c30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4c3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4c3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a3b54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1e1822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a3b54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1e182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1e1822"/>
                </a:gs>
                <a:gs pos="50000">
                  <a:srgbClr val="251f29"/>
                </a:gs>
                <a:gs pos="100000">
                  <a:srgbClr val="1e18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be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3c2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dfbe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9C78-8EB9-4970-9CBF-234AA5AEB2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2b262f"/>
                </a:gs>
                <a:gs pos="100000">
                  <a:srgbClr val="1e18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0344a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3c30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4c3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4c3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a3b54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1e1822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a3b54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1e182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1e1822"/>
                </a:gs>
                <a:gs pos="50000">
                  <a:srgbClr val="251f29"/>
                </a:gs>
                <a:gs pos="100000">
                  <a:srgbClr val="1e18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be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3c2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dfbe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66D5-73CF-4EA3-9928-D09B479934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be3"/>
                </a:solidFill>
                <a:latin typeface="Tahoma"/>
              </a:rPr>
              <a:t>Changing Verbs From</a:t>
            </a:r>
            <a:br>
              <a:rPr sz="4800"/>
            </a:br>
            <a:r>
              <a:rPr b="0" lang="en-US" sz="4800" spc="-1" strike="noStrike">
                <a:solidFill>
                  <a:srgbClr val="fdfbe3"/>
                </a:solidFill>
                <a:latin typeface="Tahoma"/>
              </a:rPr>
              <a:t>Present to Past and Future</a:t>
            </a:r>
            <a:endParaRPr b="0" lang="en-US" sz="48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Grade Gramm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60093"/>
                </a:solidFill>
                <a:latin typeface="Tahoma"/>
              </a:rPr>
              <a:t>Changing y to i</a:t>
            </a: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a present tense verb ends with a y, </a:t>
            </a:r>
            <a:r>
              <a:rPr b="0" lang="en-US" sz="2800" spc="-1" strike="noStrike">
                <a:solidFill>
                  <a:srgbClr val="008000"/>
                </a:solidFill>
                <a:latin typeface="Tahoma"/>
              </a:rPr>
              <a:t>change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y to i and add –ed to make the verb change to past ten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ll you help me </a:t>
            </a:r>
            <a:r>
              <a:rPr b="0" lang="en-US" sz="2800" spc="-1" strike="noStrike">
                <a:solidFill>
                  <a:srgbClr val="d60093"/>
                </a:solidFill>
                <a:latin typeface="Tahoma"/>
              </a:rPr>
              <a:t>car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e groceri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</a:t>
            </a:r>
            <a:r>
              <a:rPr b="0" lang="en-US" sz="2800" spc="-1" strike="noStrike">
                <a:solidFill>
                  <a:srgbClr val="d60093"/>
                </a:solidFill>
                <a:latin typeface="Tahoma"/>
              </a:rPr>
              <a:t>carri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em to the kitch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ric asked me to </a:t>
            </a:r>
            <a:r>
              <a:rPr b="0" lang="en-US" sz="2800" spc="-1" strike="noStrike">
                <a:solidFill>
                  <a:srgbClr val="d60093"/>
                </a:solidFill>
                <a:latin typeface="Tahoma"/>
              </a:rPr>
              <a:t>mar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him on New Year’s D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got </a:t>
            </a:r>
            <a:r>
              <a:rPr b="0" lang="en-US" sz="2800" spc="-1" strike="noStrike">
                <a:solidFill>
                  <a:srgbClr val="d60093"/>
                </a:solidFill>
                <a:latin typeface="Tahoma"/>
              </a:rPr>
              <a:t>marri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n August 2, 1997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Changing the Spelling</a:t>
            </a: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times a present tense verb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hanges its</a:t>
            </a:r>
            <a:r>
              <a:rPr b="0" lang="en-US" sz="28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ntire spell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make the verb change to past tense. If it helps say, “Yesterday I ______,” to help find the right word to use in the past ten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a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lunch at 11:3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t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lunch at 11:30 yesterd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ta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raight in li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too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raight in li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be3"/>
                </a:solidFill>
                <a:latin typeface="Tahoma"/>
              </a:rPr>
              <a:t>Now its your turn!</a:t>
            </a: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can you make these present tense verbs past tense verb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k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  liked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like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 likk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   tak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 too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  take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be3"/>
                </a:solidFill>
                <a:latin typeface="Tahoma"/>
              </a:rPr>
              <a:t>Try Some More</a:t>
            </a: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  buri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 bury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 buryy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  moppe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mop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 mope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  go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 go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  w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ffff"/>
                </a:solidFill>
                <a:latin typeface="Tahoma"/>
              </a:rPr>
              <a:t>Future Tense</a:t>
            </a: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uture has not yet happened, but we know it </a:t>
            </a:r>
            <a:r>
              <a:rPr b="0" lang="en-US" sz="3200" spc="-1" strike="noStrike" u="sng">
                <a:solidFill>
                  <a:srgbClr val="66ffff"/>
                </a:solidFill>
                <a:uFillTx/>
                <a:latin typeface="Tahoma"/>
              </a:rPr>
              <a:t>wil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 will to the present tense verb to make the future ten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ent - Today I 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g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st - Yesterday I 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we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ture - Tomorrow I 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will g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dfbe3"/>
                </a:solidFill>
                <a:latin typeface="Tahoma"/>
              </a:rPr>
              <a:t>Adding –ing to a present tense verb</a:t>
            </a:r>
            <a:endParaRPr b="0" lang="en-US" sz="38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 the rules used for changing the present tense verb to a past tense verb can also be used when adding –ing to the verb except for changing the spelling and do not drop the “y” when adding –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resen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ast with-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resent with -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rr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rri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rry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a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a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l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lk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lk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k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k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k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o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opp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opp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98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98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98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98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898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898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98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898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dfbe3"/>
                </a:solidFill>
                <a:latin typeface="Tahoma"/>
              </a:rPr>
              <a:t>Three Tenses of Verbs</a:t>
            </a:r>
            <a:br>
              <a:rPr sz="3800"/>
            </a:br>
            <a:endParaRPr b="0" lang="en-US" sz="3800" spc="-1" strike="noStrike">
              <a:solidFill>
                <a:srgbClr val="fdfbe3"/>
              </a:solidFill>
              <a:latin typeface="Tahoma"/>
            </a:endParaRPr>
          </a:p>
        </p:txBody>
      </p:sp>
      <p:grpSp>
        <p:nvGrpSpPr>
          <p:cNvPr id="129" name="Group 4"/>
          <p:cNvGrpSpPr/>
          <p:nvPr/>
        </p:nvGrpSpPr>
        <p:grpSpPr>
          <a:xfrm>
            <a:off x="457200" y="1600200"/>
            <a:ext cx="8229240" cy="4529520"/>
            <a:chOff x="457200" y="1600200"/>
            <a:chExt cx="8229240" cy="4529520"/>
          </a:xfrm>
        </p:grpSpPr>
        <p:sp>
          <p:nvSpPr>
            <p:cNvPr id="130" name="AutoShape 5"/>
            <p:cNvSpPr/>
            <p:nvPr/>
          </p:nvSpPr>
          <p:spPr>
            <a:xfrm>
              <a:off x="457200" y="1600200"/>
              <a:ext cx="8229240" cy="452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131" name="_s18438"/>
            <p:cNvCxnSpPr>
              <a:stCxn id="132" idx="0"/>
              <a:endCxn id="133" idx="2"/>
            </p:cNvCxnSpPr>
            <p:nvPr/>
          </p:nvCxnSpPr>
          <p:spPr>
            <a:xfrm flipV="1" rot="16200000">
              <a:off x="5558400" y="2423880"/>
              <a:ext cx="906480" cy="2880720"/>
            </a:xfrm>
            <a:prstGeom prst="bentConnector3">
              <a:avLst>
                <a:gd name="adj1" fmla="val 1271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4" name="_s18439"/>
            <p:cNvCxnSpPr>
              <a:stCxn id="135" idx="0"/>
              <a:endCxn id="133" idx="2"/>
            </p:cNvCxnSpPr>
            <p:nvPr/>
          </p:nvCxnSpPr>
          <p:spPr>
            <a:xfrm flipV="1">
              <a:off x="4571280" y="3411360"/>
              <a:ext cx="3240" cy="906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6" name="_s18440"/>
            <p:cNvCxnSpPr>
              <a:stCxn id="137" idx="0"/>
              <a:endCxn id="133" idx="2"/>
            </p:cNvCxnSpPr>
            <p:nvPr/>
          </p:nvCxnSpPr>
          <p:spPr>
            <a:xfrm flipH="1" flipV="1" rot="5400000">
              <a:off x="2678040" y="2424240"/>
              <a:ext cx="906480" cy="2880720"/>
            </a:xfrm>
            <a:prstGeom prst="bentConnector3">
              <a:avLst>
                <a:gd name="adj1" fmla="val 1271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3" name="_s18441"/>
            <p:cNvSpPr/>
            <p:nvPr/>
          </p:nvSpPr>
          <p:spPr>
            <a:xfrm>
              <a:off x="3337200" y="160020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976c9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0000"/>
                  </a:solidFill>
                  <a:latin typeface="Arial"/>
                </a:rPr>
                <a:t>Verb Tense</a:t>
              </a:r>
              <a:endParaRPr b="0" lang="en-US" sz="3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_s18442"/>
            <p:cNvSpPr/>
            <p:nvPr/>
          </p:nvSpPr>
          <p:spPr>
            <a:xfrm>
              <a:off x="457200" y="431784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976c9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100" spc="-1" strike="noStrike">
                  <a:solidFill>
                    <a:srgbClr val="ff0000"/>
                  </a:solidFill>
                  <a:latin typeface="Arial"/>
                </a:rPr>
                <a:t>past</a:t>
              </a:r>
              <a:endParaRPr b="0" lang="en-US" sz="6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_s18443"/>
            <p:cNvSpPr/>
            <p:nvPr/>
          </p:nvSpPr>
          <p:spPr>
            <a:xfrm>
              <a:off x="3337200" y="431784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976c9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500" spc="-1" strike="noStrike">
                  <a:solidFill>
                    <a:srgbClr val="ff0000"/>
                  </a:solidFill>
                  <a:latin typeface="Arial"/>
                </a:rPr>
                <a:t>present</a:t>
              </a:r>
              <a:endParaRPr b="0" lang="en-US" sz="5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_s18444"/>
            <p:cNvSpPr/>
            <p:nvPr/>
          </p:nvSpPr>
          <p:spPr>
            <a:xfrm>
              <a:off x="6217560" y="431784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976c9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100" spc="-1" strike="noStrike">
                  <a:solidFill>
                    <a:srgbClr val="ff0000"/>
                  </a:solidFill>
                  <a:latin typeface="Arial"/>
                </a:rPr>
                <a:t>future</a:t>
              </a:r>
              <a:endParaRPr b="0" lang="en-US" sz="61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be3"/>
                </a:solidFill>
                <a:latin typeface="Tahoma"/>
              </a:rPr>
              <a:t>Past Tense Verbs</a:t>
            </a: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past tense verbs end in “ed”, but there are several rules to use while changing the present to past ten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st tense verbs tell action that has already happen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words change spelling to show past ten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g = begged               grow = gre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ed = fed                    like = lik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n = ran                     play = play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be3"/>
                </a:solidFill>
                <a:latin typeface="Tahoma"/>
              </a:rPr>
              <a:t>Present Tense Verbs</a:t>
            </a: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ions that happen now or tod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present tense verbs have “ing”,  “s”, or “es” on the end of th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ue words: now, tod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ys              plays            hikes       dri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ies               juggles         fusses     dres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oats            jogs               runs         car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be3"/>
                </a:solidFill>
                <a:latin typeface="Tahoma"/>
              </a:rPr>
              <a:t>Future tense verbs</a:t>
            </a: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verbs have the helping verb “will” in front of them to show they will be happen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ue words to look for are:  tomorrow, some day, next time, or next wee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ll play            will lead          will be happ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ll have           will eat           will li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be3"/>
                </a:solidFill>
                <a:latin typeface="Tahoma"/>
              </a:rPr>
              <a:t>From Present to Past</a:t>
            </a: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are five ways to change a verb from present tense to past ten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8c46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Just add –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8c46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ahoma"/>
              </a:rPr>
              <a:t>Double the final consonant and add –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8c46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ahoma"/>
              </a:rPr>
              <a:t>Drop the final e and add –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8c46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Tahoma"/>
              </a:rPr>
              <a:t>Change the y to i and add –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8c46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hange the spell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did this when we changed a singular noun to a plural noun and with verb agreement to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6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ff"/>
                </a:solidFill>
                <a:latin typeface="Tahoma"/>
              </a:rPr>
              <a:t>Just add -ed</a:t>
            </a: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verbs can change from the present to the past by just adding –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day I </a:t>
            </a: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al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ho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sterday I </a:t>
            </a: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alk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ho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d it </a:t>
            </a: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rai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da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</a:t>
            </a: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rain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yester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98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98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f33"/>
                </a:solidFill>
                <a:latin typeface="Tahoma"/>
              </a:rPr>
              <a:t>Doubling the Final Consonant</a:t>
            </a: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a present tense verb ends with one vowel and one consonant, </a:t>
            </a:r>
            <a:r>
              <a:rPr b="0" lang="en-US" sz="2800" spc="-1" strike="noStrike">
                <a:solidFill>
                  <a:srgbClr val="99ff33"/>
                </a:solidFill>
                <a:latin typeface="Tahoma"/>
              </a:rPr>
              <a:t>doubl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e final consonant and add –ed to make the verb change to past ten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ahoma"/>
              </a:rPr>
              <a:t>Drop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e bal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</a:t>
            </a:r>
            <a:r>
              <a:rPr b="0" lang="en-US" sz="2800" spc="-1" strike="noStrike">
                <a:solidFill>
                  <a:srgbClr val="99ff33"/>
                </a:solidFill>
                <a:latin typeface="Tahoma"/>
              </a:rPr>
              <a:t>dropp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e bal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ahoma"/>
              </a:rPr>
              <a:t>Hop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n one foo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e </a:t>
            </a:r>
            <a:r>
              <a:rPr b="0" lang="en-US" sz="2800" spc="-1" strike="noStrike">
                <a:solidFill>
                  <a:srgbClr val="99ff33"/>
                </a:solidFill>
                <a:latin typeface="Tahoma"/>
              </a:rPr>
              <a:t>hopp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n one foo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8000"/>
                </a:solidFill>
                <a:latin typeface="Tahoma"/>
              </a:rPr>
              <a:t>Dropping the Final e</a:t>
            </a: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a present tense verb ends with a sneaky/silent e, </a:t>
            </a: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drop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 and add –ed to make the verb change to past ten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Ska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ith 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</a:t>
            </a: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skat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gether at the rin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lik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 sho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lik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hopping with yo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04:36:22Z</dcterms:created>
  <dc:creator> </dc:creator>
  <dc:description/>
  <dc:language>en-US</dc:language>
  <cp:lastModifiedBy>teacher</cp:lastModifiedBy>
  <dcterms:modified xsi:type="dcterms:W3CDTF">2010-11-23T18:59:44Z</dcterms:modified>
  <cp:revision>5</cp:revision>
  <dc:subject/>
  <dc:title>Changing Verbs From Present to Past</dc:title>
</cp:coreProperties>
</file>